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C0AE-96DF-4CDB-A118-4D0AE289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BB56-32C4-4DDE-B3F8-CF05762B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549957-AFA1-402C-8F2E-6ACD556F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FE146E-7885-4C0A-BF3B-43B3B3B2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F2D078-064C-4B91-A9E8-D406A421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D6D56E-E765-488B-8CA8-4D3867FD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A30EDB-05A3-4F02-AC41-D3AED694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7BDABF-6D82-4F6F-9C7B-B5755CFD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12393E-9002-4944-9328-8BD53619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DB98FC-DA6A-4F32-81D0-4E8BCE75B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C75771-B5AC-4A26-869C-D2DE4EE1A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404BD4-F585-46EB-B1B3-4F17A7AE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DF76-3086-4365-B864-492E5E808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6C6299-47C6-45E9-BE3C-239C3934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FD2BC8-6FC8-4A64-B982-A7FD3923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6AADF0-5B6A-47C2-82DE-128F370D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893CB1-C40B-4988-9ABB-61DE7A0B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74F0DE-03C2-40DC-99C4-A78BF9C0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95E176-7C01-447D-B470-6D171FF4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42B8DC-3E3E-4F59-8BF6-CC5D148D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755737-50E7-4DAC-971A-F8940983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BEE6EA-772F-4679-A3D8-007E082E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4E3808-35AB-46EC-AFC9-BA0F29363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F5C3-AF7B-42FC-9053-2159A098C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08A225-3EB9-41B4-A729-A0844C427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06A47-0990-4A49-9B38-C06D24D1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051A3-DEE5-4B19-8B91-7B3FEA22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352BD-207C-4860-B361-E39F18E4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4415D-F229-4E7F-9F80-B7F5B66A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E0A7B-66F7-492B-8802-AB2019DD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C52A7-5F4D-4673-A914-AC324219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1DE30-0BCC-48F8-8BDE-101EF760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6C277-412F-4839-B14E-9921C3F4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FA370-97EA-4F67-93D9-CEA7889E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04BB-D7DC-4B2F-A96A-2CF74E0FF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3616F-E7DC-4A46-91D1-9B0B1713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8DDC7-6C4A-4893-96FE-1F2BCFB3C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39D9F-0028-42B6-B01A-0E5EBB585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986FE7-C79D-45AE-B3F1-004C26327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6AE8A0-4BB3-4037-B2C9-C0C1ABF6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54EF1D-2D38-4AD5-BF94-D9D770E3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9FEE97-E531-4F92-9018-51AAB667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EB978C-6AA6-4C80-9C7E-47C8D734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C20806-3280-44B0-8879-5DE71F64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AC463E-539B-43CD-B981-D87AB59D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F94C-0F6B-4A02-8356-BED62F24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94B538-16B7-47FC-B5CF-9FC6E650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3AC698-1AF0-4C08-AB71-42C5C488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42F4C3-0980-42BA-80C0-C9378DAD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19A79A-9BA9-4EAB-BC2C-170B7B7FD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31CC03-1C84-4D89-8D79-950C9D73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8BCB-8A48-494C-AC98-2EC97F86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F16B-74E1-43D5-B21F-79393EEE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7741-32D0-477C-932F-A9C96A11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74F7-BD9C-4657-AB37-71ED04C3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D266-71F3-47F8-80E7-666646BE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27D2-8332-4E13-99CA-37D69C8E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6D34-1893-4A45-893B-20D94A53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9D42-DA58-4B7D-B932-71B6B036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AF82-071B-4BCE-B973-E5AA1D47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01DF-FFB7-4F33-90F2-52DA92396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750F-CE1D-4B08-AF6E-4DAFDCD50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64E94-A0EC-400D-BBB7-39949DC0D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62519-0272-4AC6-8C2B-7CCE97DC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5F7D9-A725-4F2A-BE21-3F723A35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9B9F3-7643-4B44-ADFE-E84A2369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DFDAD-4888-45C0-8919-00651200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FE2D-9813-4E4C-9373-99D672DA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38307-8CE8-4230-B06A-EDEF8CF3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DB8F8-6A38-4EBF-A4D6-625E80B3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41B41-FD2A-41B5-A711-087E8392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96E29-2827-4382-9F33-406FA564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81EAF-D8B8-48BA-A643-4686F747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41BB0-A2A4-4951-864A-93C9E102E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FD18F-DB4A-4B47-BC7B-102227902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6D0D4-F99E-4EC3-88E6-AD49126D5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397D0-8597-48E7-8AB4-5F2029DD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0CA05-9034-48E2-9968-050D9774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24FB-86DE-4896-BC36-038047B4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1D15F-6AED-4534-9B7D-82D0AE5E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12350-8035-4C2C-AB6F-DF0616BA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36E09-6B52-480C-949C-E41E9475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3524B-2273-4A51-AC6B-6E2E0B03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905A4-DFF8-4DFF-847D-E53CBAC7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2F8CB-0295-4F61-9587-C8BF44F7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C6033-9BE6-47C3-9428-2A6CF925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AE3B8-024B-4461-8353-4ABA06CC8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BAFD8-0BDA-47EC-9C7A-9EB9F901A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D9501-2F6B-42ED-8562-34148C204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7FA8-0DED-4FEE-A705-08CF7EEA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B9C9D-75C4-4F1A-A9D8-24343E1A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3A6CB-54FE-4A12-9522-2F8A7E2A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D66A8-1447-45EE-8F75-81CED985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981EB-10B8-4586-A791-A1A36D23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BA13E-50F0-4073-8552-F1B14D3C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55BC8-8BAE-49AD-9766-E2D2DB70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CD680-5EF6-4AC5-AA0F-CD55C367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C16B4-ED53-47BC-BD18-131E8270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33FAA-08F6-4EEC-A7B4-FCAEEB7F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03B5C-9A88-4415-A0BD-53DE0E0A1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4751-153C-434E-9309-933F57F2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23075-70A6-4A66-B434-3E6ED4442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6997F-62B7-4685-A657-8D09DA0B4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0DED1-5469-494E-A125-7A103E64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BEC60-2FAD-42A1-8D04-1F4395C5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40E59-2596-40C5-90A9-32CDF5FB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B0A43-A8E9-4230-B1FA-BC70120D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D7480-8B86-4275-8A85-DF1ADA29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F1969-C2E0-41C3-99BC-822A479A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26FCD-AFCD-40A7-880B-7701AD21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B76B8-2D79-4805-832B-134220C9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8E54-84B5-4A47-8D3F-B0C736F7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69F91-49C7-4645-92D8-96DE282D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4D9B0-FC1C-43F5-BF87-365721145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528D1-32E4-4611-B862-C26904AD5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D1D40-4176-426E-A05A-91001C137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028CF-56DD-4B84-A885-CC40F95F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7FFFE-D552-44B3-BC83-9FBC30AE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C6CC3-40E6-4F3E-A8A1-8011EA19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A9A2F-73A9-4592-BCDF-3583F713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285DF-734A-4F19-BC9F-ADFC8F34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E900A-E847-4129-9B08-85EE15D8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4178-05E6-4962-8ECC-06FBEDA1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1BEA5-F390-496B-911F-0E2CBC35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C4375-00FE-45BF-B83D-8317AD7A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76DC8-D1CC-4006-A386-178C180F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C828A-CB75-4257-B2B6-035A43539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759FE-FA88-432D-B51B-5ED9B19D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DD483-2BB5-41EA-9303-6FAE70D78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8B215-00B0-43A6-93E9-B1182A09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7C16B-AD1A-4482-93C7-FEE22F15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DD352-3F12-4BFB-A245-10DB13F4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E3513-3659-4737-9A1F-5BC0706D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33BA-7BB6-4C49-AE47-2DA6675F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8C2EB-99F6-416A-957A-4BAF7528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2A1C5-DD96-4C69-A8B6-4C6610EE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E164D-C649-435B-8D1E-C428C06A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09712-0F44-4286-AE7B-44E15215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159DD-8C31-4A23-816D-EFD28120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86A48-1430-4189-B5C5-DB78E01AE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DE953-B68A-41F4-A238-8D5B0465E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BDA421-C277-4E90-8BA6-86B0D9B5F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F7DF9A-C2D1-40FC-8FA8-FE41BAD4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F6C59A-B7BF-44CC-843A-327A3B19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36FF-3E0A-4F52-9A70-423EECB5F8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7C97-8D65-4323-BED9-79F2DA54D9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1037-BC39-488C-95B2-81858A6DB6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319C-8D03-4717-AB2D-5290399051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76E6-1822-429B-9E9F-6D977F7AE2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A06A-804F-4CA9-BAB5-5FEFDCD8E6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CC5A-B670-42CA-8201-29EFA53F4A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CD6F-FAAA-42A2-9EC0-E5E5BF3C5D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9E39-5727-47BF-9C0A-02397D2576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197F-908B-4A8F-97E1-EC1CF08F59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E069-2C6E-43BB-9141-6B786AC5F3E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0A5D-6967-4EFB-A0B3-3A6F99EA6C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ews.nationalgeographic.com/news/2008/02/080221-nomad-video-vin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AN INTRODUCTIO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Nomadic Herding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 fontScale="95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Where is this activity found in the world?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029200" y="5486400"/>
            <a:ext cx="3581280" cy="57960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Northern Africa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rid and semiarid, N Africa, Middle East, Central Asia, Mongoli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~20% of world’s land area; 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~15 million people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1" name="Content Placeholder 8" descr="camels.jpg"/>
          <p:cNvPicPr/>
          <p:nvPr/>
        </p:nvPicPr>
        <p:blipFill>
          <a:blip r:embed="rId1"/>
          <a:stretch/>
        </p:blipFill>
        <p:spPr>
          <a:xfrm>
            <a:off x="4952880" y="2819520"/>
            <a:ext cx="3540240" cy="2666880"/>
          </a:xfrm>
          <a:prstGeom prst="rect">
            <a:avLst/>
          </a:prstGeom>
          <a:ln w="0">
            <a:noFill/>
          </a:ln>
        </p:spPr>
      </p:pic>
      <p:sp>
        <p:nvSpPr>
          <p:cNvPr id="612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astoral Nomadism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haracteristics of Nomadic Herder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531000" indent="-264600">
              <a:spcBef>
                <a:spcPts val="7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Georgia"/>
              </a:rPr>
              <a:t>Eat mostly grains, not tons meat (more grain as % of diet)</a:t>
            </a:r>
            <a:endParaRPr b="0" lang="en-US" sz="3200" spc="-1" strike="noStrike">
              <a:solidFill>
                <a:srgbClr val="646b86"/>
              </a:solidFill>
              <a:latin typeface="Georgia"/>
            </a:endParaRPr>
          </a:p>
          <a:p>
            <a:pPr lvl="1" marL="531000" indent="-264600">
              <a:spcBef>
                <a:spcPts val="7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Georgia"/>
              </a:rPr>
              <a:t>Cultivate crops in a variety of ways (trade, leave some behind to cultivate crops, sow in flooded areas and return later, sedentary/nomadic based on rainfall)</a:t>
            </a:r>
            <a:endParaRPr b="0" lang="en-US" sz="3200" spc="-1" strike="noStrike">
              <a:solidFill>
                <a:srgbClr val="646b86"/>
              </a:solidFill>
              <a:latin typeface="Georgia"/>
            </a:endParaRPr>
          </a:p>
          <a:p>
            <a:pPr lvl="1" marL="531000" indent="-264600">
              <a:spcBef>
                <a:spcPts val="7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Georgia"/>
              </a:rPr>
              <a:t>Size of herd equates prestige; territoriality respected</a:t>
            </a:r>
            <a:endParaRPr b="0" lang="en-US" sz="3200" spc="-1" strike="noStrike">
              <a:solidFill>
                <a:srgbClr val="646b86"/>
              </a:solidFill>
              <a:latin typeface="Georgia"/>
            </a:endParaRPr>
          </a:p>
          <a:p>
            <a:pPr marL="264600" indent="-26460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nimals Herde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fferent animals in different climates and with different cultur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Camel, sheep and goats (N Africa/ME)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Horse (C Asia/Mongolia)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17" name="Picture 3" descr="GoatHerd.jpg"/>
          <p:cNvPicPr/>
          <p:nvPr/>
        </p:nvPicPr>
        <p:blipFill>
          <a:blip r:embed="rId1"/>
          <a:stretch/>
        </p:blipFill>
        <p:spPr>
          <a:xfrm>
            <a:off x="304920" y="3505320"/>
            <a:ext cx="2971800" cy="248760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4" descr="goats.jpg"/>
          <p:cNvPicPr/>
          <p:nvPr/>
        </p:nvPicPr>
        <p:blipFill>
          <a:blip r:embed="rId2"/>
          <a:stretch/>
        </p:blipFill>
        <p:spPr>
          <a:xfrm>
            <a:off x="2819520" y="4495680"/>
            <a:ext cx="3047760" cy="20322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5" descr="horses.jpg"/>
          <p:cNvPicPr/>
          <p:nvPr/>
        </p:nvPicPr>
        <p:blipFill>
          <a:blip r:embed="rId3"/>
          <a:stretch/>
        </p:blipFill>
        <p:spPr>
          <a:xfrm>
            <a:off x="5181480" y="2971800"/>
            <a:ext cx="350532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ow do Nomads know where to go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erritory traveled is precise, respected by other nomadic trib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igratory patterns are based on intimate knowledge of land and rainfall patterns (can also be influenced by political situations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e Future of Pastoral Nomads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omads are no longer the most important conveyors of goods/info; being replaced with technolog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rced resettlement efforts in China, C Asia, Middle East to use land for other purposes (mining, oil, irrigated farmland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mate Change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NAT GE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4" name="Picture 3" descr="reindeer.jpg"/>
          <p:cNvPicPr/>
          <p:nvPr/>
        </p:nvPicPr>
        <p:blipFill>
          <a:blip r:embed="rId2"/>
          <a:stretch/>
        </p:blipFill>
        <p:spPr>
          <a:xfrm>
            <a:off x="4038480" y="4038480"/>
            <a:ext cx="304812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4:46:41Z</dcterms:created>
  <dc:creator>hberndt</dc:creator>
  <dc:description/>
  <dc:language>en-US</dc:language>
  <cp:lastModifiedBy>hberndt</cp:lastModifiedBy>
  <dcterms:modified xsi:type="dcterms:W3CDTF">2010-04-28T12:31:39Z</dcterms:modified>
  <cp:revision>4</cp:revision>
  <dc:subject/>
  <dc:title>Nomadic Herding</dc:title>
</cp:coreProperties>
</file>